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6043-460B-4786-AAF6-C39465EE5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4E9F-F21A-4C7D-89E7-52D6AE6EC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1F0-F81A-4369-99B5-9064EC2D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82A-4B58-4E7E-8188-6671EB2E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9E2-290A-4578-9829-EFFA35F3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D77-5197-40E7-A918-97860634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E2E-10B3-43FC-A317-03515791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186-6FAA-470E-BA0D-4D602267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006-0074-4D22-A2C2-622440CB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041-FD7E-4EEA-B562-13368114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EB8-BC9F-4B71-80A0-2DF5E9CD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932-D66B-468D-BAFA-D36B7BF5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86C-D872-48A3-8061-CBA4FFB3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AFC-26FC-48C4-8148-76F5823C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77FE-BA8F-47FF-9D6C-B100DED20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rrah Shabb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152280" y="3352680"/>
            <a:ext cx="1600200" cy="85104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s es Farrah.Yo tengo quince años.No tengo hermanas.Yo vivo en Astor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2"/>
          <p:cNvSpPr/>
          <p:nvPr/>
        </p:nvSpPr>
        <p:spPr>
          <a:xfrm>
            <a:off x="0" y="3048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6"/>
          <p:cNvSpPr/>
          <p:nvPr/>
        </p:nvSpPr>
        <p:spPr>
          <a:xfrm>
            <a:off x="152280" y="4191120"/>
            <a:ext cx="1600200" cy="276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0"/>
          <p:cNvSpPr/>
          <p:nvPr/>
        </p:nvSpPr>
        <p:spPr>
          <a:xfrm>
            <a:off x="2362320" y="29718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Quién quiere venir a mi casa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209680" y="251460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uenos Dias yo estoy cans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743200" y="4191120"/>
            <a:ext cx="3733920" cy="7617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 yo quiero.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Podemos ver una pelicula? Ci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9" descr="Photo on 2011-10-21 at 13.53 #2.jpg"/>
          <p:cNvPicPr/>
          <p:nvPr/>
        </p:nvPicPr>
        <p:blipFill>
          <a:blip r:embed="rId2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 gusta pintar mis uñas.¿Donde esta tu cas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2" descr="Photo on 2011-10-21 at 13.46.jpg"/>
          <p:cNvPicPr/>
          <p:nvPr/>
        </p:nvPicPr>
        <p:blipFill>
          <a:blip r:embed="rId3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43434"/>
                </a:solidFill>
                <a:latin typeface="Arial"/>
              </a:rPr>
              <a:t>Sus uñas son bonitas y purpuras.Hasta Lu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6"/>
          <p:cNvSpPr/>
          <p:nvPr/>
        </p:nvSpPr>
        <p:spPr>
          <a:xfrm>
            <a:off x="22860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Hola cómo están mis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3" descr="Photo on 2011-11-29 at 13.54.jpg"/>
          <p:cNvPicPr/>
          <p:nvPr/>
        </p:nvPicPr>
        <p:blipFill>
          <a:blip r:embed="rId4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209680" y="3276720"/>
            <a:ext cx="37339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Podemos escuchar musica de One Direc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los son guapos y talentuos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7:03Z</dcterms:modified>
  <cp:revision>113</cp:revision>
  <dc:subject/>
  <dc:title>Profile</dc:title>
</cp:coreProperties>
</file>